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FB151-07FE-4975-AB46-72BA5A041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F5B9-F29F-4851-A1CC-E6E1FC3F1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F96B-E572-4074-AD9B-1ECD8319D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50655-A37B-4DF0-9A41-E327A4E59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B39B-7E66-47CA-917C-CB9610171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FA35-7E40-4928-9098-EEC246E85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834EF-A722-4D85-8094-C64AFE57A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058E-882D-49F1-A06C-96A739ABB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1899-4118-43C4-A4AE-68215CF93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5D88C-6506-4601-92AD-CD5712B65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391E-CB96-4DC6-AE68-90B2A8A01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D3077-AA11-4445-B90E-3DCE8E02D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5E64D-0682-4A1F-8E10-D07B9EA78ED8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B5EE1-8AB1-46EB-A960-A1F675E5E33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google.com" TargetMode="External"/><Relationship Id="rId2" Type="http://schemas.openxmlformats.org/officeDocument/2006/relationships/hyperlink" Target="wps.txt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3"/>
          <p:cNvSpPr/>
          <p:nvPr/>
        </p:nvSpPr>
        <p:spPr>
          <a:xfrm>
            <a:off x="1957680" y="2035080"/>
            <a:ext cx="57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1"/>
              </a:rPr>
              <a:t>AA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 Box 1"/>
          <p:cNvSpPr/>
          <p:nvPr/>
        </p:nvSpPr>
        <p:spPr>
          <a:xfrm>
            <a:off x="2732040" y="895320"/>
            <a:ext cx="555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563c1"/>
                </a:solidFill>
                <a:uFillTx/>
                <a:latin typeface="Calibri"/>
                <a:hlinkClick r:id="rId2"/>
              </a:rPr>
              <a:t>BB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23T05:46:25Z</dcterms:created>
  <dc:creator/>
  <dc:description/>
  <dc:language>en-US</dc:language>
  <cp:lastModifiedBy>Administrator</cp:lastModifiedBy>
  <dcterms:modified xsi:type="dcterms:W3CDTF">2020-07-24T02:02:02Z</dcterms:modified>
  <cp:revision>2</cp:revision>
  <dc:subject/>
  <dc:title>WPS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1.2.0.9453</vt:lpwstr>
  </property>
</Properties>
</file>