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75B9-2DA7-453D-9567-A176457FC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395E-7711-449A-8258-6CC2396B1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8CC8-44AA-48FA-9D30-E36253D85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3A66A-8105-4E26-A324-B43912AEA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794BF-A832-4F7C-82A4-087EB1B5B2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6C7E-254D-4BAA-8B79-9D50C512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78FE-0E7D-4357-B56F-67A1DD968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BED5-DD03-4B12-8CB0-9F3117F71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C38EA-4C9E-4AA2-A8D8-174E47AD6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677B-F7B3-4077-962B-31C359325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C5553-EFAE-4EAF-B6FE-38F633BEF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B15-9242-4215-A362-637CBFE0F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fld id="{9E609716-B30B-48A3-AE08-66BEF6AD0405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It's a mirac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Every drop of rain that falls in Sahara Desert says it a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40000"/>
              </a:lnSpc>
              <a:buNone/>
              <a:tabLst>
                <a:tab algn="l" pos="0"/>
                <a:tab algn="l" pos="1828800"/>
                <a:tab algn="l" pos="3657600"/>
                <a:tab algn="l" pos="5486400"/>
                <a:tab algn="l" pos="7315200"/>
                <a:tab algn="l" pos="91440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All God's creations great and small, The Golden Gate and the Taj Mah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2T17:37:43Z</dcterms:created>
  <dc:creator/>
  <dc:description/>
  <dc:language>en-US</dc:language>
  <cp:lastModifiedBy/>
  <dcterms:modified xsi:type="dcterms:W3CDTF">2014-05-22T17:54:03Z</dcterms:modified>
  <cp:revision>1</cp:revision>
  <dc:subject/>
  <dc:title/>
</cp:coreProperties>
</file>