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98A4B-4C42-4F01-8AB0-167C500F3E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3009-2483-4296-9C05-404D9236B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87AD-01E6-4582-979B-997EBB5E6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BDE0A-438E-4F63-898C-4D549B252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3686-41F2-4DC9-9A97-BE1160BDB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1DBC-38D0-4E0E-974C-458994061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F0AB-80B7-4471-B957-E26F908BF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69EE5-A4F8-4DF5-AAF7-C99D71223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FF52-81AC-4F03-91B9-2EC4ABC5B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CB20-F412-4113-9826-F381358E8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B43C9-F8F9-457B-B95E-FE5475A24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4D27-5C8D-428C-9AA1-5D70A94D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03E2F-CBF9-48C9-86A1-037C914690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1"/>
          <p:cNvSpPr/>
          <p:nvPr/>
        </p:nvSpPr>
        <p:spPr>
          <a:xfrm>
            <a:off x="1203480" y="5083200"/>
            <a:ext cx="6553080" cy="99072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92"/>
          <p:cNvSpPr/>
          <p:nvPr/>
        </p:nvSpPr>
        <p:spPr>
          <a:xfrm>
            <a:off x="822240" y="3254400"/>
            <a:ext cx="8001000" cy="327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06T13:26:43Z</dcterms:created>
  <dc:creator>vmiklos</dc:creator>
  <dc:description/>
  <dc:language>en-US</dc:language>
  <cp:lastModifiedBy>vmiklos</cp:lastModifiedBy>
  <dcterms:modified xsi:type="dcterms:W3CDTF">2017-01-06T15:36:57Z</dcterms:modified>
  <cp:revision>1</cp:revision>
  <dc:subject/>
  <dc:title>PowerPoint Presentation</dc:title>
</cp:coreProperties>
</file>