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56F19-8540-4997-ADFC-DF337318E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BE3D7-C1DE-461D-9030-76F43574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FAB3C-ACF8-4DF1-A91C-E0021902E4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323C9-C080-4344-B68E-DDE9F17C52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9C04C-B822-4448-BFB5-94F9BE94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00E70-4603-4A70-B1D8-BE2BF3907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8E11-590D-42A5-BBFC-D55F5B58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FE220-D52A-40F9-9325-50A1BD693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4147E-E1C6-49B4-A41A-71787C7E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8C19-A02E-4246-AEA6-F75E333DF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DF136-29E9-4A20-8459-D2D3C1AA4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443F7-6866-4443-8997-6ECACF427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CB17B-2E60-4465-9A9E-43D048271511}" type="slidenum">
              <a:rPr b="0" lang="pl-P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Fast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Medi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523880" y="1213920"/>
            <a:ext cx="9144000" cy="2387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6000" spc="-1" strike="noStrike">
                <a:solidFill>
                  <a:srgbClr val="000000"/>
                </a:solidFill>
                <a:latin typeface="Calibri Light"/>
              </a:rPr>
              <a:t>Slow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l-PL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2-05T15:00:40Z</dcterms:created>
  <dc:creator>Szymon Kłos</dc:creator>
  <dc:description/>
  <dc:language>en-US</dc:language>
  <cp:lastModifiedBy>Szymon Kłos</cp:lastModifiedBy>
  <dcterms:modified xsi:type="dcterms:W3CDTF">2018-02-07T09:33:17Z</dcterms:modified>
  <cp:revision>2</cp:revision>
  <dc:subject/>
  <dc:title>Prezentacja programu PowerPoint</dc:title>
</cp:coreProperties>
</file>