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16147059"/>
        <c:axId val="77941356"/>
      </c:barChart>
      <c:catAx>
        <c:axId val="16147059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941356"/>
        <c:crosses val="autoZero"/>
        <c:auto val="1"/>
        <c:lblAlgn val="ctr"/>
        <c:lblOffset val="100"/>
        <c:noMultiLvlLbl val="0"/>
      </c:catAx>
      <c:valAx>
        <c:axId val="779413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16147059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4B807-7195-4628-9E34-033CA7A214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D7848-6879-4325-BFA7-BEE666BBA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7092DD-B853-44DD-9C9F-AFE58C83E2B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5494E-1A28-4DE9-9FCF-EE779599E3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518B1-3BBD-48D5-95A1-1E24C05F7C0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2A1445-4AE8-458E-B539-7799708EE1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36978F-46B9-4A76-8E84-C7FC0B070A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01875A-CCCD-4F36-9C5A-82B0CB3AB7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08748-16F6-42A4-A257-8C24DF633A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EE1E01-958C-4808-A31E-FEB397FDD1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AE95-DB28-4AD1-A157-315A50D4A4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1E828E-084C-462D-8759-E8A9235F83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9ACED50-AE52-4C11-B74F-C8CC375A5670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