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533160" y="763200"/>
            <a:ext cx="670068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AADB8F-69AD-4B12-A5C4-88D878DC43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7"/>
          <p:cNvSpPr/>
          <p:nvPr/>
        </p:nvSpPr>
        <p:spPr>
          <a:xfrm>
            <a:off x="4398840" y="9555120"/>
            <a:ext cx="33703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47648F-7FB0-41E8-B6B5-11B83A54F3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533520" y="763560"/>
            <a:ext cx="6703920" cy="377208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1D0D-4350-42ED-81B5-38354707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35EF7-F130-494A-9B34-448D9FCCC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51597-FFED-423E-B843-71F405F6F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3269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3042360"/>
            <a:ext cx="291960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0217-B8C4-43F7-8207-EFE1E276D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DAAC-BD3F-40AA-BC65-8275CA27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12447-57C5-4291-A5D3-D4D89415F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8367-63EA-45F6-92A8-9D25E681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5114E-9E31-4727-AFC1-897CE78E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67680" cy="437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79158-ABE5-4171-9061-0A4479B24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B9084-666B-4174-AB70-F14031AE0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30423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CA6-A26E-445F-971B-C88CB3A4A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326960"/>
            <a:ext cx="442476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42360"/>
            <a:ext cx="9067680" cy="156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1449-6925-45BB-9A8E-D28941E9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67680" cy="9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67680" cy="32842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446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9248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45040" cy="38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4970E5E-C69D-4C4F-9FB8-310AC8B8A1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0200" indent="-32400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30200"/>
                <a:tab algn="l" pos="542880"/>
                <a:tab algn="l" pos="1000080"/>
                <a:tab algn="l" pos="1457280"/>
                <a:tab algn="l" pos="1914480"/>
                <a:tab algn="l" pos="2371680"/>
                <a:tab algn="l" pos="2828880"/>
                <a:tab algn="l" pos="3286080"/>
                <a:tab algn="l" pos="3743280"/>
                <a:tab algn="l" pos="4200480"/>
                <a:tab algn="l" pos="4657680"/>
                <a:tab algn="l" pos="5114880"/>
                <a:tab algn="l" pos="5572080"/>
                <a:tab algn="l" pos="6029280"/>
                <a:tab algn="l" pos="6486480"/>
                <a:tab algn="l" pos="6943680"/>
                <a:tab algn="l" pos="7400880"/>
                <a:tab algn="l" pos="7858080"/>
                <a:tab algn="l" pos="8315280"/>
                <a:tab algn="l" pos="8772480"/>
                <a:tab algn="l" pos="922968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00:39:04Z</dcterms:created>
  <dc:creator/>
  <dc:description/>
  <dc:language>en-US</dc:language>
  <cp:lastModifiedBy/>
  <dcterms:modified xsi:type="dcterms:W3CDTF">2018-04-26T00:39:10Z</dcterms:modified>
  <cp:revision>1</cp:revision>
  <dc:subject/>
  <dc:title/>
</cp:coreProperties>
</file>