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215640" y="812880"/>
            <a:ext cx="712620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D465E-65B2-4584-BF7E-AD21620E380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6B7485-D290-4126-BF49-DEE5205C154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  <a:ea typeface="新細明體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82B73-498E-4FE6-8DD3-11DFE60491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493E4-568B-486A-8F75-BF0BD84C1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822E-A0F9-452B-BC18-E4CFD9A83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B2CC7-0431-4C47-A98C-7BF5ADB6D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893C-734A-4D42-BC6D-C2FF2F978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45666-E3C8-40B7-AB13-536DB91A1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A237A-B112-469E-B88E-148A4DDF6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6F5D-3F59-42B5-A58A-A36EF1378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03C5D-0162-42DD-A8E5-6D3B2A969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87E34-4EF8-4F97-8968-2172D341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C10E7-C645-42C0-8396-BCB7BDE9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F392C-2DBB-4830-88BE-FD5B48F2E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D5FAD4-DDAC-4DD6-9A74-F159DCB2DBD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zh-TW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09T07:33:39Z</dcterms:created>
  <dc:creator>Administrator</dc:creator>
  <dc:description/>
  <dc:language>en-US</dc:language>
  <cp:lastModifiedBy>Win7User</cp:lastModifiedBy>
  <dcterms:modified xsi:type="dcterms:W3CDTF">2018-09-03T11:55:54Z</dcterms:modified>
  <cp:revision>2</cp:revision>
  <dc:subject/>
  <dc:title>PowerPoint 簡報</dc:title>
</cp:coreProperties>
</file>