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6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7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8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86DA7-8EB5-49C6-8A12-C24D0C2B5611}" type="slidenum"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07A68-8180-4640-8F65-9FB438938789}" type="slidenum">
              <a:rPr b="0" lang="he-I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60280" y="428472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2EAE7-5BFB-4420-81DF-E35485DC8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F76C4-7B9E-4C96-82F1-D075FBAF1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628D-04F8-45A1-9134-16E7634A4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8B9A-17E2-4B64-9DAF-D3A89672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CD19-5BBB-42C7-9FD2-9B82AFEBD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1888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305760" y="160020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133200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81888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305760" y="3964320"/>
            <a:ext cx="23680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CDF1A-56C7-4D0F-8302-82AC36210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1B2AE-CDDA-4F70-A346-36980AAE8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03E6-0178-46C4-BD56-E1A44283F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332000" y="274320"/>
            <a:ext cx="7354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2EFF-9F83-4AFF-BD87-30AE739D2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40EA-1C04-410A-9CD1-60C116A6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00840" y="396432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73A7-D775-4835-A0E3-B9A86527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3200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0840" y="1600200"/>
            <a:ext cx="3588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332000" y="3964320"/>
            <a:ext cx="7354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5F2C-31D8-483A-BEBB-9D076F267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24000" y="187272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he-I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668D9-5751-45E7-86E4-1DFA33D0DAF3}" type="slidenum">
              <a:rPr b="1" lang="he-I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35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1332000" y="160020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1356840" y="1341000"/>
            <a:ext cx="746460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 algn="r" rtl="1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סעיף 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he-I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9T05:58:12Z</dcterms:created>
  <dc:creator>asa</dc:creator>
  <dc:description/>
  <dc:language>en-US</dc:language>
  <cp:lastModifiedBy>me</cp:lastModifiedBy>
  <dcterms:modified xsi:type="dcterms:W3CDTF">2014-04-21T21:17:36Z</dcterms:modified>
  <cp:revision>214</cp:revision>
  <dc:subject/>
  <dc:title>Slide 1</dc:title>
</cp:coreProperties>
</file>