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08DF-4CBF-4A0B-823D-4A40FCB9A4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BBD7C-FA9D-436F-9584-E296E72FA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E3DAE-A702-4863-815A-0646EBE99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E5D38-7651-43D7-93B2-909805A88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2DCCE-105D-4321-82A6-565AD9082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C6192-3CE9-433D-B627-2DC4A1D31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0CEB-79DB-4676-AD2F-F8F045DBD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EFD10-428F-4EED-A7BC-BCD80A325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6E52-6B71-4264-AD2D-3CF95B7FE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AE9F4-8830-47B3-9A51-125FB4F05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D8A0-874B-43E2-86D5-F9A6267E7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9ACF-D853-40A4-8670-78A581280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2AD767-6171-4462-9364-D5E1E2891DB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324000">
              <a:lnSpc>
                <a:spcPct val="93000"/>
              </a:lnSpc>
              <a:spcBef>
                <a:spcPts val="1137"/>
              </a:spcBef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Yet more level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7-07T02:20:43Z</dcterms:created>
  <dc:creator/>
  <dc:description/>
  <dc:language>en-US</dc:language>
  <cp:lastModifiedBy/>
  <dcterms:modified xsi:type="dcterms:W3CDTF">2020-07-07T02:21:46Z</dcterms:modified>
  <cp:revision>1</cp:revision>
  <dc:subject/>
  <dc:title/>
</cp:coreProperties>
</file>