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26463-34A6-414C-997B-DC9B1FB11D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5B49A-579D-4048-8AD2-842C6C88C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1376-BB3E-4FC2-A049-DF52E5BCF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D78AE-4EF2-4DF9-BF68-1344135E35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E815-2F7E-4234-A2ED-95E1BDD3E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213C-3804-457C-A581-7940B1198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F0CD7-8537-402D-BE05-402F6D687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D098-2B1D-4863-B881-2D6E41EEC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D69-B3BC-4ED7-8F8D-340B051C0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F343-66E6-4C0E-8F26-ABD81D34E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ACA3-7BC4-4565-A250-64D22DD95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9E93-4CD0-4F63-94FA-506FD4038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E688C-A5E9-4D2A-B9B5-100DB0EA107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2206800" y="2405160"/>
            <a:ext cx="2137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Underlined hyperli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8-08T03:12:25Z</dcterms:created>
  <dc:creator>Windows 用户</dc:creator>
  <dc:description/>
  <dc:language>en-US</dc:language>
  <cp:lastModifiedBy>Windows 用户</cp:lastModifiedBy>
  <dcterms:modified xsi:type="dcterms:W3CDTF">2019-08-08T03:16:29Z</dcterms:modified>
  <cp:revision>1</cp:revision>
  <dc:subject/>
  <dc:title>PowerPoint 演示文稿</dc:title>
</cp:coreProperties>
</file>