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1346-D54B-4149-B55A-D09F7DB114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5EEF-42E9-4728-BABB-79F782091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FCB83-15BC-443A-921E-57BDD33E8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65455-00AC-40D1-95B2-7B132A45A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EB04-BBE1-4A25-A0CF-491E06AF9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8C27-1842-477F-B7EB-B9D5902A1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F415-227D-459B-97AA-714ACD331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52E4-E75C-4AF5-976B-2C95ECFC3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64D2-CD71-4D2F-B1EC-9F6AF9765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7A9F0-364A-4D0B-B0C5-F411DA36E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78B47-D0BE-4E01-94A4-6817A0C85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A0E8-6678-4111-A128-555BDB90F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88D3-ADA6-4AAE-A660-FF5C3E976D4D}" type="slidenum">
              <a:rPr b="0" lang="ru-RU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3532320" y="1628640"/>
            <a:ext cx="324000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a50021"/>
                </a:solidFill>
                <a:latin typeface="Arial"/>
              </a:rPr>
              <a:t>בדיקה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a50021"/>
              </a:solidFill>
              <a:latin typeface="Arial"/>
              <a:ea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ke Kaganski</dc:creator>
  <dc:description/>
  <dc:language>en-US</dc:language>
  <cp:lastModifiedBy>Mike Kaganski</cp:lastModifiedBy>
  <dcterms:modified xsi:type="dcterms:W3CDTF">2021-07-13T13:39:23Z</dcterms:modified>
  <cp:revision>1</cp:revision>
  <dc:subject/>
  <dc:title>PowerPoint Presentation</dc:title>
</cp:coreProperties>
</file>