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DC57E-3432-4554-AC4F-4A13CF0107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FF663-C0F9-44FC-A609-C300B982C9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4D37B9-02E7-43B8-91A1-232538075E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C0A81-F264-42B7-BB7C-67735507C2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9F22-C7D8-4636-BA72-4E95093511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B1974-9F4C-4F16-96B3-87709871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9A5E2-3DCB-4FAE-96A9-AF05AC3E3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FD52D-107B-40F0-8293-0351F0D92A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FD65F-8E3B-4F8D-B3B4-38177AF0A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09D8-570D-4C0C-B106-7440A2934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B759E-ADBB-4CCF-9CCD-CA959446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39E21-8C4B-4467-B5AE-781B20AC90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1EF06E-A8A5-47EE-AC88-2440E6163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04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Summa</a:t>
            </a:r>
            <a:r>
              <a:rPr b="1" lang="en-US" sz="4400" spc="-1" strike="noStrike">
                <a:solidFill>
                  <a:srgbClr val="3333cc"/>
                </a:solidFill>
                <a:latin typeface="Comic Sans MS"/>
              </a:rPr>
              <a:t> </a:t>
            </a:r>
            <a:r>
              <a:rPr b="1" lang="en-US" sz="5400" spc="-1" strike="noStrike">
                <a:solidFill>
                  <a:srgbClr val="3333cc"/>
                </a:solidFill>
                <a:latin typeface="Comic Sans MS"/>
              </a:rPr>
              <a:t>ruut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12372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2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2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33520" y="762120"/>
            <a:ext cx="7619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Pane tähele, kuidas nimetatakse valemi liikmeid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1219320"/>
            <a:ext cx="71629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676520" y="2514600"/>
            <a:ext cx="746748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36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36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1143000" y="3047760"/>
            <a:ext cx="1371600" cy="871560"/>
            <a:chOff x="1143000" y="3047760"/>
            <a:chExt cx="1371600" cy="871560"/>
          </a:xfrm>
        </p:grpSpPr>
        <p:sp>
          <p:nvSpPr>
            <p:cNvPr id="47" name=""/>
            <p:cNvSpPr/>
            <p:nvPr/>
          </p:nvSpPr>
          <p:spPr>
            <a:xfrm>
              <a:off x="1143000" y="3276720"/>
              <a:ext cx="13716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NE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 flipV="1">
              <a:off x="1828800" y="304776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9" name=""/>
          <p:cNvGrpSpPr/>
          <p:nvPr/>
        </p:nvGrpSpPr>
        <p:grpSpPr>
          <a:xfrm>
            <a:off x="2590920" y="3048120"/>
            <a:ext cx="1066680" cy="871200"/>
            <a:chOff x="2590920" y="3048120"/>
            <a:chExt cx="1066680" cy="871200"/>
          </a:xfrm>
        </p:grpSpPr>
        <p:sp>
          <p:nvSpPr>
            <p:cNvPr id="50" name=""/>
            <p:cNvSpPr/>
            <p:nvPr/>
          </p:nvSpPr>
          <p:spPr>
            <a:xfrm>
              <a:off x="2590920" y="3276720"/>
              <a:ext cx="106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NE  LIIGE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 flipV="1">
              <a:off x="2971800" y="3048120"/>
              <a:ext cx="7632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6172200" y="3048120"/>
            <a:ext cx="1447920" cy="1145520"/>
            <a:chOff x="6172200" y="3048120"/>
            <a:chExt cx="1447920" cy="1145520"/>
          </a:xfrm>
        </p:grpSpPr>
        <p:sp>
          <p:nvSpPr>
            <p:cNvPr id="53" name=""/>
            <p:cNvSpPr/>
            <p:nvPr/>
          </p:nvSpPr>
          <p:spPr>
            <a:xfrm>
              <a:off x="6172200" y="3276720"/>
              <a:ext cx="144792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TEI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V="1">
              <a:off x="655308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5" name=""/>
          <p:cNvGrpSpPr/>
          <p:nvPr/>
        </p:nvGrpSpPr>
        <p:grpSpPr>
          <a:xfrm>
            <a:off x="3886200" y="3048120"/>
            <a:ext cx="1295280" cy="1145520"/>
            <a:chOff x="3886200" y="3048120"/>
            <a:chExt cx="1295280" cy="1145520"/>
          </a:xfrm>
        </p:grpSpPr>
        <p:sp>
          <p:nvSpPr>
            <p:cNvPr id="56" name=""/>
            <p:cNvSpPr/>
            <p:nvPr/>
          </p:nvSpPr>
          <p:spPr>
            <a:xfrm>
              <a:off x="3886200" y="3276720"/>
              <a:ext cx="1295280" cy="916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LIIKME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4343400" y="3048120"/>
              <a:ext cx="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8" name=""/>
          <p:cNvGrpSpPr/>
          <p:nvPr/>
        </p:nvGrpSpPr>
        <p:grpSpPr>
          <a:xfrm>
            <a:off x="4038480" y="1676520"/>
            <a:ext cx="4419720" cy="914400"/>
            <a:chOff x="4038480" y="1676520"/>
            <a:chExt cx="4419720" cy="914400"/>
          </a:xfrm>
        </p:grpSpPr>
        <p:sp>
          <p:nvSpPr>
            <p:cNvPr id="59" name=""/>
            <p:cNvSpPr/>
            <p:nvPr/>
          </p:nvSpPr>
          <p:spPr>
            <a:xfrm>
              <a:off x="4038480" y="1676520"/>
              <a:ext cx="4419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ESIMESE JA TEISE LIIKME KAHEKORDNE KORRUTI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548640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" name=""/>
          <p:cNvSpPr/>
          <p:nvPr/>
        </p:nvSpPr>
        <p:spPr>
          <a:xfrm>
            <a:off x="762120" y="4495680"/>
            <a:ext cx="716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Sõnastame valemi ülaloleva skeemi abil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762120" y="502920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715000" y="502920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62120" y="541008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676520" y="5410080"/>
            <a:ext cx="6248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57913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676520" y="579132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371600" y="1676520"/>
            <a:ext cx="2362320" cy="914400"/>
            <a:chOff x="1371600" y="1676520"/>
            <a:chExt cx="2362320" cy="914400"/>
          </a:xfrm>
        </p:grpSpPr>
        <p:sp>
          <p:nvSpPr>
            <p:cNvPr id="69" name=""/>
            <p:cNvSpPr/>
            <p:nvPr/>
          </p:nvSpPr>
          <p:spPr>
            <a:xfrm>
              <a:off x="1371600" y="1676520"/>
              <a:ext cx="23623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3333cc"/>
                  </a:solidFill>
                  <a:latin typeface="Times New Roman"/>
                </a:rPr>
                <a:t>KAHE ÜKSLIIKME SUMMA RUUT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2362320" y="228600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990720" y="1295280"/>
            <a:ext cx="6629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219320" y="1447920"/>
            <a:ext cx="693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62120" y="2971800"/>
            <a:ext cx="74674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( a + b )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=  a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r>
              <a:rPr b="0" lang="en-US" sz="2800" spc="-1" strike="noStrike">
                <a:solidFill>
                  <a:srgbClr val="000000"/>
                </a:solidFill>
                <a:latin typeface="Comic Sans MS"/>
              </a:rPr>
              <a:t> + 2ab + b</a:t>
            </a:r>
            <a:r>
              <a:rPr b="0" lang="en-US" sz="2800" spc="-1" strike="noStrike" baseline="30000">
                <a:solidFill>
                  <a:srgbClr val="000000"/>
                </a:solidFill>
                <a:latin typeface="Comic Sans MS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609480" y="1676520"/>
            <a:ext cx="8077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80880" y="1447920"/>
            <a:ext cx="8458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175248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 ÜKSLIIKME SUMMA RUUT VÕRDU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5638680" y="1752480"/>
            <a:ext cx="3200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ESIME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685800" y="2133720"/>
            <a:ext cx="106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1600200" y="2133720"/>
            <a:ext cx="6248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KAHEKORDNE ESIMESE JA TEISE LIIKME KORRUTI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685800" y="251460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PLUS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600200" y="2514600"/>
            <a:ext cx="2971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33cc"/>
                </a:solidFill>
                <a:latin typeface="Times New Roman"/>
              </a:rPr>
              <a:t>TEISE LIIKME RUU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1143000"/>
            <a:ext cx="807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Kasutame valemit ja selle sõnastust ülesannete lahendamis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838080" y="3505320"/>
            <a:ext cx="190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( x + 3 )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51460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8954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200400" y="3505320"/>
            <a:ext cx="9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2·x·3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441972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3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114800" y="35053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876920" y="3505320"/>
            <a:ext cx="106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8148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x</a:t>
            </a:r>
            <a:r>
              <a:rPr b="0" lang="en-US" sz="2800" spc="-1" strike="noStrike" baseline="30000">
                <a:solidFill>
                  <a:srgbClr val="3333cc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38680" y="3505320"/>
            <a:ext cx="685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019920" y="3505320"/>
            <a:ext cx="990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6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6553080" y="3505320"/>
            <a:ext cx="45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+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934320" y="35053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9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438280" y="3505320"/>
            <a:ext cx="381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14400" y="4419720"/>
            <a:ext cx="23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3x + 1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819520" y="4419720"/>
            <a:ext cx="5715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3x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3x ·1 + 1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9x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6x + 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838080" y="5257800"/>
            <a:ext cx="228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 2a + 5 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2743200" y="5257800"/>
            <a:ext cx="5715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(2a)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·2a ·5 + 5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=  4a</a:t>
            </a:r>
            <a:r>
              <a:rPr b="1" lang="en-US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+ 20a + 25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0" name=""/>
          <p:cNvGrpSpPr/>
          <p:nvPr/>
        </p:nvGrpSpPr>
        <p:grpSpPr>
          <a:xfrm>
            <a:off x="4419720" y="2286000"/>
            <a:ext cx="3047760" cy="3048120"/>
            <a:chOff x="4419720" y="2286000"/>
            <a:chExt cx="3047760" cy="3048120"/>
          </a:xfrm>
        </p:grpSpPr>
        <p:sp>
          <p:nvSpPr>
            <p:cNvPr id="101" name=""/>
            <p:cNvSpPr/>
            <p:nvPr/>
          </p:nvSpPr>
          <p:spPr>
            <a:xfrm>
              <a:off x="4419720" y="2286000"/>
              <a:ext cx="3047760" cy="304812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5410080" y="3429000"/>
              <a:ext cx="1142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(a+b)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61760" y="533520"/>
            <a:ext cx="236196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( a + b )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4" name=""/>
          <p:cNvGrpSpPr/>
          <p:nvPr/>
        </p:nvGrpSpPr>
        <p:grpSpPr>
          <a:xfrm>
            <a:off x="990720" y="3581280"/>
            <a:ext cx="2133360" cy="2133360"/>
            <a:chOff x="990720" y="3581280"/>
            <a:chExt cx="2133360" cy="2133360"/>
          </a:xfrm>
        </p:grpSpPr>
        <p:sp>
          <p:nvSpPr>
            <p:cNvPr id="105" name=""/>
            <p:cNvSpPr/>
            <p:nvPr/>
          </p:nvSpPr>
          <p:spPr>
            <a:xfrm>
              <a:off x="990720" y="358128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1828440" y="434304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7" name=""/>
          <p:cNvGrpSpPr/>
          <p:nvPr/>
        </p:nvGrpSpPr>
        <p:grpSpPr>
          <a:xfrm>
            <a:off x="1600200" y="2133720"/>
            <a:ext cx="914400" cy="914400"/>
            <a:chOff x="1600200" y="2133720"/>
            <a:chExt cx="914400" cy="914400"/>
          </a:xfrm>
        </p:grpSpPr>
        <p:sp>
          <p:nvSpPr>
            <p:cNvPr id="108" name=""/>
            <p:cNvSpPr/>
            <p:nvPr/>
          </p:nvSpPr>
          <p:spPr>
            <a:xfrm>
              <a:off x="1600200" y="213372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828800" y="236232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0" name=""/>
          <p:cNvGrpSpPr/>
          <p:nvPr/>
        </p:nvGrpSpPr>
        <p:grpSpPr>
          <a:xfrm>
            <a:off x="4419720" y="5257800"/>
            <a:ext cx="2133360" cy="520560"/>
            <a:chOff x="4419720" y="5257800"/>
            <a:chExt cx="2133360" cy="520560"/>
          </a:xfrm>
        </p:grpSpPr>
        <p:sp>
          <p:nvSpPr>
            <p:cNvPr id="111" name=""/>
            <p:cNvSpPr/>
            <p:nvPr/>
          </p:nvSpPr>
          <p:spPr>
            <a:xfrm>
              <a:off x="4419720" y="533412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5334120" y="525780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6553080" y="5257800"/>
            <a:ext cx="1295280" cy="520560"/>
            <a:chOff x="6553080" y="5257800"/>
            <a:chExt cx="1295280" cy="520560"/>
          </a:xfrm>
        </p:grpSpPr>
        <p:sp>
          <p:nvSpPr>
            <p:cNvPr id="114" name=""/>
            <p:cNvSpPr/>
            <p:nvPr/>
          </p:nvSpPr>
          <p:spPr>
            <a:xfrm>
              <a:off x="6553080" y="5334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6858000" y="5257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990720" y="5638680"/>
            <a:ext cx="2133360" cy="520560"/>
            <a:chOff x="990720" y="5638680"/>
            <a:chExt cx="2133360" cy="520560"/>
          </a:xfrm>
        </p:grpSpPr>
        <p:sp>
          <p:nvSpPr>
            <p:cNvPr id="117" name=""/>
            <p:cNvSpPr/>
            <p:nvPr/>
          </p:nvSpPr>
          <p:spPr>
            <a:xfrm>
              <a:off x="990720" y="5715000"/>
              <a:ext cx="2133360" cy="0"/>
            </a:xfrm>
            <a:prstGeom prst="line">
              <a:avLst/>
            </a:prstGeom>
            <a:ln w="2844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905120" y="5638680"/>
              <a:ext cx="533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3300"/>
                  </a:solidFill>
                  <a:latin typeface="Times New Roman"/>
                </a:rPr>
                <a:t>a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19" name=""/>
          <p:cNvGrpSpPr/>
          <p:nvPr/>
        </p:nvGrpSpPr>
        <p:grpSpPr>
          <a:xfrm>
            <a:off x="1600200" y="2971800"/>
            <a:ext cx="1295280" cy="520560"/>
            <a:chOff x="1600200" y="2971800"/>
            <a:chExt cx="1295280" cy="520560"/>
          </a:xfrm>
        </p:grpSpPr>
        <p:sp>
          <p:nvSpPr>
            <p:cNvPr id="120" name=""/>
            <p:cNvSpPr/>
            <p:nvPr/>
          </p:nvSpPr>
          <p:spPr>
            <a:xfrm>
              <a:off x="1600200" y="3048120"/>
              <a:ext cx="914400" cy="0"/>
            </a:xfrm>
            <a:prstGeom prst="line">
              <a:avLst/>
            </a:prstGeom>
            <a:ln w="2844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1905120" y="297180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3333cc"/>
                  </a:solidFill>
                  <a:latin typeface="Times New Roman"/>
                </a:rPr>
                <a:t>b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4419720" y="3200400"/>
            <a:ext cx="2133360" cy="2133360"/>
            <a:chOff x="4419720" y="3200400"/>
            <a:chExt cx="2133360" cy="2133360"/>
          </a:xfrm>
        </p:grpSpPr>
        <p:sp>
          <p:nvSpPr>
            <p:cNvPr id="123" name=""/>
            <p:cNvSpPr/>
            <p:nvPr/>
          </p:nvSpPr>
          <p:spPr>
            <a:xfrm>
              <a:off x="4419720" y="3200400"/>
              <a:ext cx="2133360" cy="213336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257440" y="3962160"/>
              <a:ext cx="9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a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6553080" y="2286000"/>
            <a:ext cx="914400" cy="914400"/>
            <a:chOff x="6553080" y="2286000"/>
            <a:chExt cx="914400" cy="914400"/>
          </a:xfrm>
        </p:grpSpPr>
        <p:sp>
          <p:nvSpPr>
            <p:cNvPr id="126" name=""/>
            <p:cNvSpPr/>
            <p:nvPr/>
          </p:nvSpPr>
          <p:spPr>
            <a:xfrm>
              <a:off x="6553080" y="2286000"/>
              <a:ext cx="914400" cy="9144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6781680" y="2514600"/>
              <a:ext cx="609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</a:rPr>
                <a:t>b</a:t>
              </a:r>
              <a:r>
                <a:rPr b="0" lang="en-US" sz="28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2895480" y="685800"/>
            <a:ext cx="68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352680" y="685800"/>
            <a:ext cx="1219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4267080" y="685800"/>
            <a:ext cx="1676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+ 2ab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62720" y="685800"/>
            <a:ext cx="312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= a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+ 2ab + b</a:t>
            </a:r>
            <a:r>
              <a:rPr b="1" lang="en-US" sz="36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29400" y="3962520"/>
            <a:ext cx="76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029200" y="251460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·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H="1" flipV="1">
            <a:off x="5333760" y="1295280"/>
            <a:ext cx="1600200" cy="274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257800" y="1294920"/>
            <a:ext cx="0" cy="129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08:41:27Z</dcterms:created>
  <dc:creator>Arvi</dc:creator>
  <dc:description/>
  <dc:language>en-US</dc:language>
  <cp:lastModifiedBy>Jürgen</cp:lastModifiedBy>
  <dcterms:modified xsi:type="dcterms:W3CDTF">2004-10-26T20:42:43Z</dcterms:modified>
  <cp:revision>51</cp:revision>
  <dc:subject/>
  <dc:title>No Slide Title</dc:title>
</cp:coreProperties>
</file>