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862EE-31A2-4151-BEEB-C63071047F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24246-7B18-4922-924C-3F7C561C7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D948-D551-4AF5-B8C5-8E344FF826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5D233-0C86-4715-AC89-5D12D45FCC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9068E-DBB7-459C-9046-351DA663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2E26E-A605-4A98-883D-568390966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0500-55AD-4263-A535-5692EBB6C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3DA1F-BC8B-4966-A384-69CAF70A06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6DC36-7B2E-4C31-AE05-1A8FFE092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83478-DBEA-4692-B737-C2EE6277D3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C636B-6206-4061-9D65-27C940FD7A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74A14-6225-43E1-8949-199A69C37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5AF12F-EF4F-485B-AA70-D4235CAAF4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429000" y="2438280"/>
            <a:ext cx="2209680" cy="221004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1-10-31T09:14:47Z</dcterms:created>
  <dc:creator>Regina Henschel</dc:creator>
  <dc:description/>
  <dc:language>en-US</dc:language>
  <cp:lastModifiedBy>Regina Henschel</cp:lastModifiedBy>
  <dcterms:modified xsi:type="dcterms:W3CDTF">2021-10-31T09:18:45Z</dcterms:modified>
  <cp:revision>1</cp:revision>
  <dc:subject/>
  <dc:title>Kein Folientitel</dc:title>
</cp:coreProperties>
</file>