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-681826054113" cy="25400"/>
  <p:notesSz cx="6858000" cy="104039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051F-1833-4CCC-8E49-F6ACAB206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678D-DB10-4CAC-9456-A58A4E202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352E-76E4-462C-AA89-54741814E8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-44026190064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-232789051080" y="576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-64773475056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-44026190064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-232789051080" y="13320"/>
            <a:ext cx="19759318992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E641-F65F-4099-9268-C69A35C16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E089-6725-42D0-A5AD-D5FF3135E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FD4-F8B6-45D2-84DE-443977AAA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C322-9B9B-4FD3-89F0-82BDEFBD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7279-EF02-48BB-830E-F135B1C2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647734750560" y="-1332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ADDE-572D-489A-899A-A6D9495EE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088B-6485-4302-A62D-BB3536BD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3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-333303847920" y="1332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A83F-A401-4F86-AC64-81049695A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647734750560" y="-22680"/>
            <a:ext cx="613643447880" cy="5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-64773475056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-333303847920" y="5760"/>
            <a:ext cx="29945800224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-647734750560" y="13320"/>
            <a:ext cx="613643447880" cy="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1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D6AF-8F1C-4F50-829E-6C91B7998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647734750560" y="720"/>
            <a:ext cx="613643447880" cy="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-647734750560" y="5760"/>
            <a:ext cx="613643447880" cy="1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T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1929567726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-449323368480" y="22680"/>
            <a:ext cx="21613885848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-647734750200" y="22680"/>
            <a:ext cx="158865469920" cy="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82C3-E04B-4B37-99A2-380DCD5F08C3}" type="slidenum">
              <a:rPr b="0" lang="en-US" sz="2400" spc="-1" strike="noStrike">
                <a:solidFill>
                  <a:srgbClr val="000000"/>
                </a:solidFill>
                <a:latin typeface="Tim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-647734750560" y="-332640"/>
            <a:ext cx="613643447880" cy="67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647734750560" y="-10440"/>
            <a:ext cx="613643447880" cy="4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