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1885170"/>
        <c:axId val="35210248"/>
      </c:barChart>
      <c:catAx>
        <c:axId val="7188517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35210248"/>
        <c:crosses val="autoZero"/>
        <c:auto val="1"/>
        <c:lblAlgn val="ctr"/>
        <c:lblOffset val="100"/>
        <c:noMultiLvlLbl val="0"/>
      </c:catAx>
      <c:valAx>
        <c:axId val="35210248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188517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846860-2050-4E0D-B0B3-DC71D72D40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0A9482-8C1E-4E51-8F16-EB80BD7A74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EA86-ACC9-4440-B8B6-0433829A29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35C3D-7F0F-45DD-92A0-857B61CE6C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35A783-4C43-4F8A-8323-37E7DDECD8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E211E-F56A-49AF-BB24-ECC9B33AC5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ACB7F-7A09-4580-B370-B1CACDAFD5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F2C2AB-9EB1-4965-A3FB-58C47CB3DF7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FC5C0-7493-47A5-B17A-E1B0359890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B6B6F-6DA7-4A62-9C6C-D250E21D1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6A0A83-6F02-4C43-9BB8-CF9083EE6D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F01BD2-E654-479D-B9F3-D88BE2A7C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79E51E6-C997-4C56-8D01-5C66D7201BA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