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7315200" cy="914400"/>
  <p:notesSz cx="6858000" cy="9144000"/>
  <p:custShowLst>
    <p:custShow name="my custom Show" id="0">
      <p:sldLst>
        <p:sld r:id="rId4"/>
        <p:sld r:id="rId5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02B6A-850E-4D57-B036-9310C80FA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5539E-9E16-4C70-AEDA-8D346AA69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3BC92-5859-4E11-B9B5-125DDEA19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C3953-8718-4B92-82C3-00006BEC7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179EE-BDF2-49C6-A042-B63500A1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28285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60120" y="72036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969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28285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4560120" y="811080"/>
            <a:ext cx="164880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512136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DFEF-A52D-4EBD-BD0F-49AA2ECE0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2BE4A-45D3-44B9-AB17-BEE124959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454B8-B10E-459F-9B84-E2E34F6B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1523520" y="30240"/>
            <a:ext cx="5668920" cy="898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2E22-28A1-4C26-AB33-7300F2E59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CF411-E416-4616-9936-A7C1C4E6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17316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52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3721320" y="81108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CD8B4-7BBD-433D-877F-B8CB8036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969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721320" y="720360"/>
            <a:ext cx="249912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096920" y="811080"/>
            <a:ext cx="5121360" cy="8244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14000"/>
          </a:bodyPr>
          <a:p>
            <a:pPr indent="0">
              <a:spcBef>
                <a:spcPts val="400"/>
              </a:spcBef>
              <a:buNone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839CC-438F-4075-8DA5-2CE2F3E35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401840" cy="91440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7160" rIns="47160" tIns="23400" bIns="23400" anchor="t">
            <a:noAutofit/>
          </a:bodyPr>
          <a:p>
            <a:pPr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10287000" y="0"/>
            <a:ext cx="27432000" cy="9144000"/>
            <a:chOff x="-10287000" y="0"/>
            <a:chExt cx="27432000" cy="9144000"/>
          </a:xfrm>
        </p:grpSpPr>
        <p:sp>
          <p:nvSpPr>
            <p:cNvPr id="2" name=""/>
            <p:cNvSpPr/>
            <p:nvPr/>
          </p:nvSpPr>
          <p:spPr>
            <a:xfrm>
              <a:off x="937800" y="104400"/>
              <a:ext cx="405000" cy="68040"/>
            </a:xfr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22400" y="104400"/>
              <a:ext cx="405000" cy="6804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-10287000" y="0"/>
              <a:ext cx="27432000" cy="9144000"/>
              <a:chOff x="-10287000" y="0"/>
              <a:chExt cx="27432000" cy="9144000"/>
            </a:xfrm>
          </p:grpSpPr>
          <p:sp>
            <p:nvSpPr>
              <p:cNvPr id="5" name=""/>
              <p:cNvSpPr/>
              <p:nvPr/>
            </p:nvSpPr>
            <p:spPr>
              <a:xfrm flipH="1" rot="10800000">
                <a:off x="206640" y="49320"/>
                <a:ext cx="198720" cy="5616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0664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06640" y="49320"/>
                <a:ext cx="199080" cy="540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06360" y="49320"/>
                <a:ext cx="99720" cy="56160"/>
              </a:xfrm>
              <a:custGeom>
                <a:avLst/>
                <a:gdLst/>
                <a:ahLst/>
                <a:rect l="l" t="t" r="r" b="b"/>
                <a:pathLst>
                  <a:path w="412" h="894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93320" y="83160"/>
                <a:ext cx="232200" cy="79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PlaceHolder 1"/>
              <p:cNvSpPr>
                <a:spLocks noGrp="1"/>
              </p:cNvSpPr>
              <p:nvPr>
                <p:ph type="title"/>
              </p:nvPr>
            </p:nvSpPr>
            <p:spPr>
              <a:xfrm>
                <a:off x="1523520" y="30240"/>
                <a:ext cx="5668920" cy="193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" name="PlaceHolder 2"/>
              <p:cNvSpPr>
                <a:spLocks noGrp="1"/>
              </p:cNvSpPr>
              <p:nvPr>
                <p:ph type="body"/>
              </p:nvPr>
            </p:nvSpPr>
            <p:spPr>
              <a:xfrm>
                <a:off x="530280" y="253800"/>
                <a:ext cx="6216480" cy="54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t">
                <a:normAutofit fontScale="25000"/>
              </a:bodyPr>
              <a:p>
                <a:pPr marL="43920" indent="-43920">
                  <a:spcBef>
                    <a:spcPts val="400"/>
                  </a:spcBef>
                  <a:buClr>
                    <a:srgbClr val="ffffcc"/>
                  </a:buClr>
                  <a:buSzPct val="90000"/>
                  <a:buFont typeface="Wingdings" charset="2"/>
                  <a:buChar char="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Click to edit the outline text format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1" marL="95400" indent="-3672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con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2" marL="14688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Third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3" marL="20556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–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our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4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Fif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5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ix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  <a:p>
                <a:pPr lvl="6" marL="264240" indent="-29160">
                  <a:spcBef>
                    <a:spcPts val="400"/>
                  </a:spcBef>
                  <a:buClr>
                    <a:srgbClr val="eaeaea"/>
                  </a:buClr>
                  <a:buFont typeface="Times New Roman"/>
                  <a:buChar char="•"/>
                  <a:tabLst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1600" spc="-1" strike="noStrike">
                    <a:solidFill>
                      <a:srgbClr val="eaeaea"/>
                    </a:solidFill>
                    <a:latin typeface="Times New Roman"/>
                  </a:rPr>
                  <a:t>Seventh Outline Level</a:t>
                </a:r>
                <a:endParaRPr b="0" lang="en-US" sz="16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2" name="PlaceHolder 3"/>
              <p:cNvSpPr>
                <a:spLocks noGrp="1"/>
              </p:cNvSpPr>
              <p:nvPr>
                <p:ph type="dt" idx="1"/>
              </p:nvPr>
            </p:nvSpPr>
            <p:spPr>
              <a:xfrm>
                <a:off x="549000" y="852480"/>
                <a:ext cx="15238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date/time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PlaceHolder 4"/>
              <p:cNvSpPr>
                <a:spLocks noGrp="1"/>
              </p:cNvSpPr>
              <p:nvPr>
                <p:ph type="ftr" idx="2"/>
              </p:nvPr>
            </p:nvSpPr>
            <p:spPr>
              <a:xfrm>
                <a:off x="2498760" y="852480"/>
                <a:ext cx="2317680" cy="61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  <a:defRPr b="0" lang="zh-CN" sz="7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ctr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zh-CN" sz="7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7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50440" y="53640"/>
                <a:ext cx="637200" cy="1584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68680" y="53640"/>
                <a:ext cx="318600" cy="16056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495360" y="151200"/>
                <a:ext cx="743040" cy="22320"/>
              </a:xfrm>
              <a:prstGeom prst="rect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71bb96"/>
                  </a:gs>
                  <a:gs pos="100000">
                    <a:srgbClr val="0000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7" name="PlaceHolder 5"/>
              <p:cNvSpPr>
                <a:spLocks noGrp="1"/>
              </p:cNvSpPr>
              <p:nvPr>
                <p:ph type="title"/>
              </p:nvPr>
            </p:nvSpPr>
            <p:spPr>
              <a:xfrm>
                <a:off x="549360" y="517320"/>
                <a:ext cx="6216480" cy="152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" name="PlaceHolder 6"/>
              <p:cNvSpPr>
                <a:spLocks noGrp="1"/>
              </p:cNvSpPr>
              <p:nvPr>
                <p:ph type="dt" idx="3"/>
              </p:nvPr>
            </p:nvSpPr>
            <p:spPr>
              <a:xfrm>
                <a:off x="549000" y="0"/>
                <a:ext cx="1523880" cy="60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47520" rIns="47520" tIns="23760" bIns="23760" anchor="ctr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en-US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eaeaea"/>
                    </a:solidFill>
                    <a:latin typeface="Times New Roman"/>
                  </a:rPr>
                  <a:t>*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PlaceHolder 7"/>
              <p:cNvSpPr>
                <a:spLocks noGrp="1"/>
              </p:cNvSpPr>
              <p:nvPr>
                <p:ph type="hdr"/>
              </p:nvPr>
            </p:nvSpPr>
            <p:spPr>
              <a:xfrm>
                <a:off x="-36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head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PlaceHolder 8"/>
              <p:cNvSpPr>
                <a:spLocks noGrp="1"/>
              </p:cNvSpPr>
              <p:nvPr>
                <p:ph type="title"/>
              </p:nvPr>
            </p:nvSpPr>
            <p:spPr>
              <a:xfrm>
                <a:off x="-10287000" y="685440"/>
                <a:ext cx="27432000" cy="34290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txBody>
              <a:bodyPr lIns="90000" rIns="90000" tIns="46800" bIns="46800" anchor="ctr">
                <a:noAutofit/>
              </a:bodyPr>
              <a:p>
                <a:pPr indent="0">
                  <a:buNone/>
                  <a:tabLst>
                    <a:tab algn="l" pos="0"/>
                    <a:tab algn="l" pos="469800"/>
                    <a:tab algn="l" pos="939960"/>
                    <a:tab algn="l" pos="1409760"/>
                    <a:tab algn="l" pos="1879560"/>
                    <a:tab algn="l" pos="2349360"/>
                    <a:tab algn="l" pos="2819520"/>
                    <a:tab algn="l" pos="3289320"/>
                    <a:tab algn="l" pos="3759120"/>
                    <a:tab algn="l" pos="4229280"/>
                    <a:tab algn="l" pos="4699080"/>
                    <a:tab algn="l" pos="5168880"/>
                    <a:tab algn="l" pos="5638680"/>
                    <a:tab algn="l" pos="6108840"/>
                    <a:tab algn="l" pos="6578640"/>
                    <a:tab algn="l" pos="7048440"/>
                    <a:tab algn="l" pos="7518240"/>
                    <a:tab algn="l" pos="7988400"/>
                    <a:tab algn="l" pos="8458200"/>
                    <a:tab algn="l" pos="8928000"/>
                    <a:tab algn="l" pos="9398160"/>
                  </a:tabLst>
                </a:pPr>
                <a:r>
                  <a:rPr b="0" lang="en-US" sz="2300" spc="-1" strike="noStrike">
                    <a:solidFill>
                      <a:srgbClr val="ffffcc"/>
                    </a:solidFill>
                    <a:latin typeface="Times New Roman"/>
                  </a:rPr>
                  <a:t>Click to edit the title text format</a:t>
                </a:r>
                <a:endParaRPr b="0" lang="en-US" sz="23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 txBox="1"/>
              <p:nvPr/>
            </p:nvSpPr>
            <p:spPr>
              <a:xfrm>
                <a:off x="914400" y="4343400"/>
                <a:ext cx="5029200" cy="41148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 indent="0">
                  <a:spcBef>
                    <a:spcPts val="451"/>
                  </a:spcBef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eaeaea"/>
                    </a:solidFill>
                    <a:latin typeface="Times New Roman"/>
                  </a:rPr>
                  <a:t>Click to edit the notes format</a:t>
                </a:r>
                <a:endParaRPr b="0" lang="en-US" sz="12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22" name="PlaceHolder 9"/>
              <p:cNvSpPr>
                <a:spLocks noGrp="1"/>
              </p:cNvSpPr>
              <p:nvPr>
                <p:ph type="dt" idx="4"/>
              </p:nvPr>
            </p:nvSpPr>
            <p:spPr>
              <a:xfrm>
                <a:off x="3885840" y="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hi-IN" sz="24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hi-IN" sz="2400" spc="-1" strike="noStrike">
                    <a:solidFill>
                      <a:srgbClr val="eaeaea"/>
                    </a:solidFill>
                    <a:latin typeface="Times New Roman"/>
                  </a:rPr>
                  <a:t>ༀ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PlaceHolder 10"/>
              <p:cNvSpPr>
                <a:spLocks noGrp="1"/>
              </p:cNvSpPr>
              <p:nvPr>
                <p:ph type="ftr" idx="5"/>
              </p:nvPr>
            </p:nvSpPr>
            <p:spPr>
              <a:xfrm>
                <a:off x="-36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footer&gt;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PlaceHolder 11"/>
              <p:cNvSpPr>
                <a:spLocks noGrp="1"/>
              </p:cNvSpPr>
              <p:nvPr>
                <p:ph type="sldNum" idx="6"/>
              </p:nvPr>
            </p:nvSpPr>
            <p:spPr>
              <a:xfrm>
                <a:off x="3885840" y="8686800"/>
                <a:ext cx="297180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b">
                <a:noAutofit/>
              </a:bodyPr>
              <a:lstStyle>
                <a:lvl1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  <a:defRPr b="0" lang="zh-CN" sz="1200" spc="-1" strike="noStrike">
                    <a:solidFill>
                      <a:srgbClr val="eaeaea"/>
                    </a:solidFill>
                    <a:latin typeface="Times New Roman"/>
                  </a:defRPr>
                </a:lvl1pPr>
              </a:lstStyle>
              <a:p>
                <a:pPr indent="0" algn="r">
                  <a:buNone/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0688189A-ED84-41F1-87B3-241E41AA50A7}" type="slidenum">
                  <a:rPr b="0" lang="zh-CN" sz="1200" spc="-1" strike="noStrike">
                    <a:solidFill>
                      <a:srgbClr val="eaeaea"/>
                    </a:solidFill>
                    <a:latin typeface="Times New Roman"/>
                  </a:rPr>
                  <a:t>&lt;number&gt;</a:t>
                </a:fld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0"/>
                <a:ext cx="7314840" cy="914040"/>
              </a:xfrm>
              <a:prstGeom prst="rect">
                <a:avLst/>
              </a:prstGeom>
              <a:solidFill>
                <a:srgbClr val="0076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" name="PlaceHolder 12"/>
          <p:cNvSpPr>
            <a:spLocks noGrp="1"/>
          </p:cNvSpPr>
          <p:nvPr>
            <p:ph type="title"/>
          </p:nvPr>
        </p:nvSpPr>
        <p:spPr>
          <a:xfrm>
            <a:off x="1523520" y="30240"/>
            <a:ext cx="5668920" cy="19368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23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23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" name="PlaceHolder 13"/>
          <p:cNvSpPr>
            <a:spLocks noGrp="1"/>
          </p:cNvSpPr>
          <p:nvPr>
            <p:ph type="body"/>
          </p:nvPr>
        </p:nvSpPr>
        <p:spPr>
          <a:xfrm>
            <a:off x="530280" y="253800"/>
            <a:ext cx="6216480" cy="54900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t">
            <a:normAutofit fontScale="25000"/>
          </a:bodyPr>
          <a:p>
            <a:pPr marL="43920" indent="-43920">
              <a:spcBef>
                <a:spcPts val="400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1" marL="95400" indent="-3672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2" marL="14688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3" marL="20556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–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4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5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  <a:p>
            <a:pPr lvl="6" marL="264240" indent="-29160">
              <a:spcBef>
                <a:spcPts val="400"/>
              </a:spcBef>
              <a:buClr>
                <a:srgbClr val="eaeaea"/>
              </a:buClr>
              <a:buFont typeface="Times New Roman"/>
              <a:buChar char="•"/>
              <a:tabLst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en-US" sz="16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14"/>
          <p:cNvSpPr>
            <a:spLocks noGrp="1"/>
          </p:cNvSpPr>
          <p:nvPr>
            <p:ph type="dt" idx="7"/>
          </p:nvPr>
        </p:nvSpPr>
        <p:spPr>
          <a:xfrm>
            <a:off x="549000" y="852480"/>
            <a:ext cx="15238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15"/>
          <p:cNvSpPr>
            <a:spLocks noGrp="1"/>
          </p:cNvSpPr>
          <p:nvPr>
            <p:ph type="ftr" idx="8"/>
          </p:nvPr>
        </p:nvSpPr>
        <p:spPr>
          <a:xfrm>
            <a:off x="2498760" y="852480"/>
            <a:ext cx="2317680" cy="61920"/>
          </a:xfrm>
          <a:prstGeom prst="rect">
            <a:avLst/>
          </a:prstGeom>
          <a:noFill/>
          <a:ln w="0">
            <a:noFill/>
          </a:ln>
        </p:spPr>
        <p:txBody>
          <a:bodyPr lIns="47520" rIns="47520" tIns="23760" bIns="23760" anchor="ctr">
            <a:noAutofit/>
          </a:bodyPr>
          <a:lstStyle>
            <a:lvl1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  <a:defRPr b="0" lang="zh-CN" sz="7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69800"/>
                <a:tab algn="l" pos="939960"/>
                <a:tab algn="l" pos="1409760"/>
                <a:tab algn="l" pos="1879560"/>
                <a:tab algn="l" pos="2349360"/>
                <a:tab algn="l" pos="2819520"/>
                <a:tab algn="l" pos="3289320"/>
                <a:tab algn="l" pos="3759120"/>
                <a:tab algn="l" pos="4229280"/>
                <a:tab algn="l" pos="4699080"/>
                <a:tab algn="l" pos="5168880"/>
                <a:tab algn="l" pos="5638680"/>
                <a:tab algn="l" pos="6108840"/>
                <a:tab algn="l" pos="6578640"/>
                <a:tab algn="l" pos="7048440"/>
                <a:tab algn="l" pos="7518240"/>
                <a:tab algn="l" pos="7988400"/>
                <a:tab algn="l" pos="8458200"/>
                <a:tab algn="l" pos="8928000"/>
                <a:tab algn="l" pos="9398160"/>
              </a:tabLst>
            </a:pPr>
            <a:r>
              <a:rPr b="0" lang="zh-CN" sz="7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1:38:07Z</dcterms:created>
  <dc:creator>Administrator</dc:creator>
  <dc:description/>
  <dc:language>en-US</dc:language>
  <cp:lastModifiedBy>Administrator</cp:lastModifiedBy>
  <dcterms:modified xsi:type="dcterms:W3CDTF">2005-05-25T08:17:49Z</dcterms:modified>
  <cp:revision>38</cp:revision>
  <dc:subject/>
  <dc:title>Key Issu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