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21808808"/>
        <c:axId val="16543667"/>
      </c:barChart>
      <c:catAx>
        <c:axId val="21808808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543667"/>
        <c:crosses val="autoZero"/>
        <c:auto val="1"/>
        <c:lblAlgn val="ctr"/>
        <c:lblOffset val="100"/>
        <c:noMultiLvlLbl val="0"/>
      </c:catAx>
      <c:valAx>
        <c:axId val="16543667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1808808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D7ED9-FC45-420D-989B-D41F42CC7F4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B1156-75CD-44A4-80B7-847195B94A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07139-CD9C-4EC6-8FB1-21DCF1D251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5DF53-2409-47A7-AE85-79FC16B8AD3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87DF19-A21A-4E3E-A0A4-11E96CD37A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2DAE21-BBC9-417B-9167-138D4A84D4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D6DA1-26F8-4730-9B82-4CF672F428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A46BBD-3A64-4482-A4D9-025ED2AE77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EBB94D-D7A9-4B21-B4BA-FEF039B469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0F4D7F-AD5A-45E6-8C0E-DDDA41283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AEC37-7919-4620-957D-A360562D53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2866CE-292A-41CC-BA14-1E69BA480F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DF355D-6925-487D-8FE0-54EC72A23F3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