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49783747"/>
        <c:axId val="6370460"/>
      </c:barChart>
      <c:catAx>
        <c:axId val="49783747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370460"/>
        <c:crosses val="autoZero"/>
        <c:auto val="1"/>
        <c:lblAlgn val="ctr"/>
        <c:lblOffset val="100"/>
        <c:noMultiLvlLbl val="0"/>
      </c:catAx>
      <c:valAx>
        <c:axId val="6370460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49783747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894469-D858-42B5-B223-5FE0B2A98C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3617E-45C4-4D20-83BB-81924D28E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48CB25-4E97-43B0-9561-AF53F9082E8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C9E70F-9346-4A4F-BC45-7F24B1CAF4C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092B9-A806-4231-BD27-DE609548FA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F4255-C697-4DFB-ABE1-5A8167B377C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2AF4C-18F3-4162-B50A-A84DB42586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BB8A65-97CB-4C53-9F4B-35E878682C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D270E4-D282-4C7D-9948-36A984306A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DB2E5-A9AC-4710-8A4D-30E85B67B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74A6C-AFEB-480D-AF68-F416B57D5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D2D1AB-B214-42AD-8D17-9477B3E8D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24C930-02EB-48A4-B746-B18DB381AA58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