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0165680"/>
        <c:axId val="69663152"/>
      </c:barChart>
      <c:catAx>
        <c:axId val="6016568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663152"/>
        <c:crosses val="autoZero"/>
        <c:auto val="1"/>
        <c:lblAlgn val="ctr"/>
        <c:lblOffset val="100"/>
        <c:noMultiLvlLbl val="0"/>
      </c:catAx>
      <c:valAx>
        <c:axId val="6966315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16568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B3F23-5A17-45A2-951F-EDAB2751A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F809D-6996-420F-9F6A-DCAD7310E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574AE-6774-4203-9E6F-9DC95B83A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0890E-25DE-4F26-AAE9-B81007A06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EC584-485D-4549-9DAE-CB1D0149F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B6F59-C2B2-4F09-B77B-D384EE879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D0367-1779-4F84-BA87-2C863FA4A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4BD6C-09AD-41D3-B07D-BA65C9B56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BADEA-3DEB-4AD7-B9DC-83DE7CC12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28BB7-9D6F-49D5-AA7A-817F2B044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994EB-58F9-41B6-B430-342CA6862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C891C-CBAC-40E9-A0E0-4D2A5EC51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C16392-63FF-4929-A779-38DB35FC592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