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09752"/>
        <c:axId val="49804375"/>
      </c:barChart>
      <c:catAx>
        <c:axId val="74809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04375"/>
        <c:crosses val="autoZero"/>
        <c:auto val="1"/>
        <c:lblAlgn val="ctr"/>
        <c:lblOffset val="100"/>
        <c:noMultiLvlLbl val="0"/>
      </c:catAx>
      <c:valAx>
        <c:axId val="49804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09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2C8-F892-40AF-AA99-C237FA7B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7F4-266A-4888-9E4B-9184A241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7B5-4A14-4B87-A915-633CC5CC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A4D-7E4C-4B2B-8984-23BDEF84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501-E041-4A40-89F8-42429350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5B9-50CA-4BE2-A16F-2344924C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573-6A98-48FF-9517-55953A0E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258-8920-4D36-AE17-C381D44E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9F5-343D-4E6E-8318-996F6EED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974-2EA7-488B-852C-4EB0D852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E4D-EB83-4B71-AA67-FCD2FC15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CFE-CFF0-4D06-A760-5C41E0A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7C0B9-0AB1-4D35-B32A-B96A7FAA05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