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995555"/>
        <c:axId val="16759841"/>
      </c:barChart>
      <c:catAx>
        <c:axId val="489955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759841"/>
        <c:crosses val="autoZero"/>
        <c:auto val="1"/>
        <c:lblAlgn val="ctr"/>
        <c:lblOffset val="100"/>
        <c:noMultiLvlLbl val="0"/>
      </c:catAx>
      <c:valAx>
        <c:axId val="167598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955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90CB-AE40-406D-95EA-21F33BA89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5A36-3214-438B-8CA9-04EA289D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89AA-0C57-4327-B63C-663B6146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5FA7-BF82-4D3C-8671-92E5377C7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2C91-7CE8-4501-8031-37501880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5DBC-0A33-477C-81D2-10D6E149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5703-AD84-4A9A-912E-77D0E7FA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8472-4166-43B9-AF31-953CEF6D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1509-4C2D-4A9E-9D31-6518DFAC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ACA1-E9BF-489B-9E4B-EAD634C2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624E-0EF5-4605-86AD-30002285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41F9-628E-4890-83FD-6C4D0508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99F37-79B7-4AA4-B5EF-DDDF385A00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