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75922"/>
        <c:axId val="97938493"/>
      </c:barChart>
      <c:catAx>
        <c:axId val="71075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8493"/>
        <c:crosses val="autoZero"/>
        <c:auto val="1"/>
        <c:lblAlgn val="ctr"/>
        <c:lblOffset val="100"/>
        <c:noMultiLvlLbl val="0"/>
      </c:catAx>
      <c:valAx>
        <c:axId val="97938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75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B1D-F30C-4720-B284-EC0CCDD0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912-D8DA-423B-B718-46E0E766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48C-5454-4BEF-8D5C-3E372139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759-7700-4BC3-849F-0E327C30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EE8-A5E1-4B2E-8570-FF38D68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290-E230-49DB-BDC0-001C69E1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E04-DB3C-4A41-B067-C9654BFE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23A-7ACF-467C-B37E-8A8EA2EB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1B8-F06F-43CB-B0F1-B54E5E31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2ED-BCC7-41B8-A572-77BBC66B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E08-1F52-4F3E-9EF6-C249500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38F-45C9-4BB4-8348-6C0653F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4B2F9-EDC3-49E9-BE4C-8E96DE0E05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