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648442"/>
        <c:axId val="66451806"/>
      </c:barChart>
      <c:catAx>
        <c:axId val="4964844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6451806"/>
        <c:crosses val="autoZero"/>
        <c:auto val="1"/>
        <c:lblAlgn val="ctr"/>
        <c:lblOffset val="100"/>
        <c:noMultiLvlLbl val="0"/>
      </c:catAx>
      <c:valAx>
        <c:axId val="6645180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64844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8E601-9879-4420-AB53-2459CBA824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006F7-2330-43DF-BBBB-D50234289D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F11F40-B9AB-4C01-B0F2-8B209A4AA9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674B3-5AEB-4008-A7A2-396E215E56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998445-B29E-428F-9839-68E0226211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78F4D-20DA-4B40-B175-DBFCC54076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9DE4E-8FEC-49AB-867A-05D835A74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E21934-3383-4537-9929-278E9EF938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B9D33-FFF6-455F-9D0B-6CC456478A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D8AEB-723B-4CA3-ADF6-C2E9A418D6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4A46C8-8C28-4EE4-878A-D26EB74EA2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46458-6C28-4D32-8B62-F18248925E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EF26DF2-0ED8-483B-AAB3-12126C051B4F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