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7496848"/>
        <c:axId val="32627453"/>
      </c:barChart>
      <c:catAx>
        <c:axId val="474968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2627453"/>
        <c:crosses val="autoZero"/>
        <c:auto val="1"/>
        <c:lblAlgn val="ctr"/>
        <c:lblOffset val="100"/>
        <c:noMultiLvlLbl val="0"/>
      </c:catAx>
      <c:valAx>
        <c:axId val="3262745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74968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F9C61-C3E6-49BD-A938-A89F53A0D8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5270C-4056-4CDD-93A8-E1CF38FD60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495E-43F6-4155-B7D5-669F878C25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FCB8C5-FA44-40E1-9DDF-F0C73A6298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DC6E2-4EE9-4EAE-9D43-D0E34FAA9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6AF1F-333F-485B-8E48-9A1901B4C8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6B49A-BDC8-4884-B699-60F3D495F4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8A78A-C1F6-4A67-B4E0-EF95D562D9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DC21F-31A1-4655-A43E-43F0F97B9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A77102-30C3-4D98-BF7F-6982AE7BA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7A73D-2234-43BD-80C2-41DE5139BD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477DA-A430-4AE6-B24E-F86310395A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C0C1EE-9FB1-4AE0-967D-96156A1E10A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