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48996"/>
        <c:axId val="99436570"/>
      </c:barChart>
      <c:catAx>
        <c:axId val="41348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36570"/>
        <c:crosses val="autoZero"/>
        <c:auto val="1"/>
        <c:lblAlgn val="ctr"/>
        <c:lblOffset val="100"/>
        <c:noMultiLvlLbl val="0"/>
      </c:catAx>
      <c:valAx>
        <c:axId val="99436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48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793-DE94-4049-838F-76F671E7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285-BE72-4D3D-9829-DB25546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4FC-EBFD-4A84-83D8-BF487B87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587-2709-4724-AC97-D8CD5BEA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8AD-3728-437F-BB38-F1613A90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2A5-0828-48CF-A5A9-B858D539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BF1-E35A-45E5-ABB7-29CBC614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59C-E817-41A8-A6FE-5409CA10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EFF-E631-4B1A-ABBA-B3A1EFE5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B6E-85F6-4201-BB74-A8E61B18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072-23EB-457B-8E17-6045E2A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8B5-F608-4956-9225-5C6EE6F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830A7-22DB-4808-A9CB-18C1754F0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