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50717"/>
        <c:axId val="45278483"/>
      </c:barChart>
      <c:catAx>
        <c:axId val="75250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78483"/>
        <c:crosses val="autoZero"/>
        <c:auto val="1"/>
        <c:lblAlgn val="ctr"/>
        <c:lblOffset val="100"/>
        <c:noMultiLvlLbl val="0"/>
      </c:catAx>
      <c:valAx>
        <c:axId val="45278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50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ADD-9B43-4223-8CB8-11DF6466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B51-9C51-4281-B28C-31FC452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2CD-8C88-436D-88A5-19A2D65D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FBA-E6F2-4B76-A5D1-9631B431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E3F-F712-4E70-A539-FDE6DFB6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380-6C14-4BEC-96C5-18F4715F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CDE-D125-4AA0-B996-11659CAE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D87-B700-4990-B59E-A158624D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59D-5A6C-48AA-80FC-606C23E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340-8B7B-4D30-A8B1-AA2C9603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F20-EE4E-4879-8158-9E5BFADB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6DA-1E04-4893-BAFB-2C4E787A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6FCAF-EEBB-4092-9C0A-DBD4AF6302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