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42627"/>
        <c:axId val="75073569"/>
      </c:barChart>
      <c:catAx>
        <c:axId val="40342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73569"/>
        <c:crosses val="autoZero"/>
        <c:auto val="1"/>
        <c:lblAlgn val="ctr"/>
        <c:lblOffset val="100"/>
        <c:noMultiLvlLbl val="0"/>
      </c:catAx>
      <c:valAx>
        <c:axId val="75073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42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028-377B-4FED-8918-86702D23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492-1C5D-4C1A-B90D-87F02F51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95D-AB21-4254-BA71-3E5A385D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EDB-A5B0-4647-A16E-14003968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017-E38C-467E-B8E0-B035330D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C6D-EDBA-4800-80C0-3F96DEBD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45A-410F-4BFA-902D-DF21D63E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B66-1E25-46A7-8F57-BCE2BD36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D71-1FB3-4A3B-A08F-451D988F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436-DADD-4FD9-8B79-7E557A45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1E3-8A63-49B7-8F57-1F5A99B6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6AC-B90C-48F0-A81C-7F1FEE3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C10EB-74BC-4682-A006-E8596E03FB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