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69405"/>
        <c:axId val="93088805"/>
      </c:barChart>
      <c:catAx>
        <c:axId val="66569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88805"/>
        <c:crosses val="autoZero"/>
        <c:auto val="1"/>
        <c:lblAlgn val="ctr"/>
        <c:lblOffset val="100"/>
        <c:noMultiLvlLbl val="0"/>
      </c:catAx>
      <c:valAx>
        <c:axId val="93088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69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68B-9E69-4AFB-9F8C-82E443E4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114-F8F2-44A9-B977-35B78C1C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573-182D-4908-899B-5DE5F60D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6A89-8359-4F1C-8658-718413B0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8C8-8048-473F-8B33-15BD10B3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CFF-00EC-4DD4-AD20-A5D326BE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0C2-5439-43BE-9580-630B6974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584-3CE7-4B4D-BA9B-D291F506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B07-ADB4-4EB5-A360-E0225D87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16D-B097-41D9-987F-14103BA9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52CB-6CD3-4DC2-91D2-E8F43099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D46-868F-41BE-B111-0AF9A078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BDC94-3CB3-42E5-9DF6-9B9C815287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