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76661"/>
        <c:axId val="35204090"/>
      </c:barChart>
      <c:catAx>
        <c:axId val="64776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04090"/>
        <c:crosses val="autoZero"/>
        <c:auto val="1"/>
        <c:lblAlgn val="ctr"/>
        <c:lblOffset val="100"/>
        <c:noMultiLvlLbl val="0"/>
      </c:catAx>
      <c:valAx>
        <c:axId val="35204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76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DD0-91BB-403A-9D11-D6703C5C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5B2-767C-417E-812D-143FFD3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DB8-7916-467A-83C9-100F8AC0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099-95A4-4318-B00E-80CF28AD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9A6-722E-4FCD-B380-3F900BC7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510-E1BE-4FCC-A1E0-5129BC92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CBA-63E4-4F4C-A5DD-4B87D019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B2B-BAA7-42BC-A56A-0E5CAD73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414-197B-45A3-96A4-95BB7729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251-90BC-41DD-B6A0-888FC9B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6C8-618B-4ABF-89AC-54EE85D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022-2BBC-4FD6-A6C4-7AE1A149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171A1-1FFF-4648-B079-2B8A64CFA8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