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0670"/>
        <c:axId val="92507816"/>
      </c:barChart>
      <c:catAx>
        <c:axId val="951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7816"/>
        <c:crosses val="autoZero"/>
        <c:auto val="1"/>
        <c:lblAlgn val="ctr"/>
        <c:lblOffset val="100"/>
        <c:noMultiLvlLbl val="0"/>
      </c:catAx>
      <c:valAx>
        <c:axId val="92507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2AB-8325-4A7A-8973-BEA02F5F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B1C-3F22-4652-B3F1-C621231E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F11-1342-4FDB-A423-28D6CE27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A4D-C3C6-44C0-A299-5B564151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149-8568-43AA-B8C5-E76BD26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F67-9F02-4D41-881B-FE1A60C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D1A-732B-4830-AF6E-721855BE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F55-4D06-489D-A9A6-C5F7D999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F7A-2524-465A-B1E9-2835F4AE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95C-42B8-4D60-A447-0EA293F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07E-5F41-46BF-906E-B9F9F1A6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00B-E157-49EA-83B3-AB1EDD5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0E38-6D2C-4953-B167-1A2B4F7F4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