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43547"/>
        <c:axId val="83838866"/>
      </c:barChart>
      <c:catAx>
        <c:axId val="62743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38866"/>
        <c:crosses val="autoZero"/>
        <c:auto val="1"/>
        <c:lblAlgn val="ctr"/>
        <c:lblOffset val="100"/>
        <c:noMultiLvlLbl val="0"/>
      </c:catAx>
      <c:valAx>
        <c:axId val="83838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3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677-9259-424B-ADE9-7A9ED6CD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0B3-AA60-4C5B-9FCA-17A09457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FBB-020B-48DB-B058-33A4AB7C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D33-CE7C-46BE-A368-0DE98AE1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8BD-70B7-4279-B705-6C05BA8E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48C-7451-4F63-8C05-2AFCE61C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F31-5A55-4F4E-B3FA-980EE677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A93-FE85-44C8-991F-1E81272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6B5-9ED5-43D4-9C41-FD3C137C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359-E191-40B4-A4D8-850727D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C94-A915-4BAA-A210-491416B7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0D3-4442-47E6-966D-52A6D422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FBDBD-0D6D-4404-B6AE-8A4E290642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