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52647"/>
        <c:axId val="86885035"/>
      </c:barChart>
      <c:catAx>
        <c:axId val="14852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85035"/>
        <c:crosses val="autoZero"/>
        <c:auto val="1"/>
        <c:lblAlgn val="ctr"/>
        <c:lblOffset val="100"/>
        <c:noMultiLvlLbl val="0"/>
      </c:catAx>
      <c:valAx>
        <c:axId val="86885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2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DBA-1DBE-4B26-9745-5BBE3801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149-FEAC-4E7D-8C1B-E217912B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412-8025-4EDC-980C-07E3ACC8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D10-70E6-41A4-BA12-41086D1E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A97-DADA-403C-B5A0-D595C2FA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5A4-FA6A-431C-9ECF-A2E2188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4C6-0FD8-499E-ADB5-9708410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E0D-A7BC-4CF4-BACF-452FD257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914-D97C-41E0-8F20-0D25F83B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6FA-A148-481B-A131-3450C978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58E-AD2E-45BF-8B87-8FBE39E5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32E-B4E6-4516-8AFC-C5472EA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C8E3A-9C6C-4588-84FB-CBF8A7161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