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964626"/>
        <c:axId val="59913139"/>
      </c:barChart>
      <c:catAx>
        <c:axId val="879646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13139"/>
        <c:crosses val="autoZero"/>
        <c:auto val="1"/>
        <c:lblAlgn val="ctr"/>
        <c:lblOffset val="100"/>
        <c:noMultiLvlLbl val="0"/>
      </c:catAx>
      <c:valAx>
        <c:axId val="599131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646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B384-9754-430B-8F25-48CAE698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5B82-372B-4F74-A999-4A58687D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0F72-99C0-42CF-B416-DEA0D9F7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463-B2D4-4D4B-8DAC-F68F4E72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5725-13C5-46EA-8FB6-90BB281C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4B1-4D3A-4247-AED0-398EF003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837-19A5-4491-B6D3-9179958E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FE2-FC89-4D68-9D44-CA7DFAC6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22EE-38F0-401F-8BA8-48BAB61C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78F9-3886-4506-AA82-7BF6A41A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D0B-07E8-4E06-A6F6-2F7C117F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333-DE9D-42DA-AE4E-6B2824BE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3CD1E-080B-48C4-BAD9-01C7D76452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