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95351"/>
        <c:axId val="96466515"/>
      </c:barChart>
      <c:catAx>
        <c:axId val="91095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66515"/>
        <c:crosses val="autoZero"/>
        <c:auto val="1"/>
        <c:lblAlgn val="ctr"/>
        <c:lblOffset val="100"/>
        <c:noMultiLvlLbl val="0"/>
      </c:catAx>
      <c:valAx>
        <c:axId val="96466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95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9DD-A4EC-465A-8E81-DA3B8BA2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822-EAA6-45E9-8BC3-EAC97492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B5E-C59E-4180-9D9F-65D86B07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AEF-76D6-471A-8261-55BEDC7B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DF5-B86E-4838-84DB-D9784408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FB5-21DA-4D5A-AAC4-312B4E0D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771-6083-4FF8-AF26-CFFAB451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47A-508B-4F18-BAA4-AF41DC00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C32-AE07-430C-A79A-BB11C689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F11-AB0C-4F40-8320-D244C57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1BE-D6F0-4C07-9AC2-A815BD7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3C4-0668-4ED5-847F-4A957233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FEDB9-D9D5-461D-B986-DA2B944136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