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692249"/>
        <c:axId val="826763"/>
      </c:barChart>
      <c:catAx>
        <c:axId val="236922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763"/>
        <c:crosses val="autoZero"/>
        <c:auto val="1"/>
        <c:lblAlgn val="ctr"/>
        <c:lblOffset val="100"/>
        <c:noMultiLvlLbl val="0"/>
      </c:catAx>
      <c:valAx>
        <c:axId val="8267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922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4C5A-6E56-4E56-BAE9-21372999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628A-FA7E-4EAA-AF9F-2CD940A1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5EC2-F72B-4B97-A743-519038A4A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9162-5D66-4A1D-B8F1-BFB509C9F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461E-56DD-423B-B847-6C4A82C4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0C5E-5D94-4CA2-B423-7F562DC7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922E-59B9-46FD-8866-B727CE09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C62E-D920-4B31-8C8E-AB7C37F1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3B50-1F23-4E2B-BC6B-A933ECDA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444F-FA48-45CA-A0E8-EF61FE9A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27C5-6055-4D78-80D7-EAD87C59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4626-8659-45A7-8296-C331399D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76F6A-A52C-43BC-8A7F-CD823BE76B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