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35547"/>
        <c:axId val="44868186"/>
      </c:barChart>
      <c:catAx>
        <c:axId val="42235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68186"/>
        <c:crosses val="autoZero"/>
        <c:auto val="1"/>
        <c:lblAlgn val="ctr"/>
        <c:lblOffset val="100"/>
        <c:noMultiLvlLbl val="0"/>
      </c:catAx>
      <c:valAx>
        <c:axId val="44868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35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3C5C-D20C-49EE-9BA7-8AFC184A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C3B-589B-4B5A-B63E-1E63D68E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353-D303-4A99-8F9D-57580706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BF2B-3E4C-4594-8A5C-FEE49F0F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862-4A96-4CE6-959A-C7C1BD64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14A-CD5A-4C5B-A5EC-5B8F73B2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694-E4D7-463A-86A1-4FB03D06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30F-97DE-44C2-830A-F586EE9A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A79F-02F0-45C1-8936-B1937CD5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840-D1F7-4D46-87EE-5B0093F7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1A00-96DB-4C30-8399-95FA5190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7C27-C6AC-4C11-9259-8734830B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D9070-7AAC-4B1E-A88E-90FF105745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