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23784"/>
        <c:axId val="54013993"/>
      </c:barChart>
      <c:catAx>
        <c:axId val="78123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3993"/>
        <c:crosses val="autoZero"/>
        <c:auto val="1"/>
        <c:lblAlgn val="ctr"/>
        <c:lblOffset val="100"/>
        <c:noMultiLvlLbl val="0"/>
      </c:catAx>
      <c:valAx>
        <c:axId val="5401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3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4A3-2372-41CB-9089-12FC4AD4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E17-6975-4AE8-B5CE-06A1D6E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A4C-E3B1-4E4D-9DBB-59F18137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F68-B618-46D7-9554-ABC6EE98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4C6-12D9-498E-9109-C9D7B6A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2EF-5B6A-4735-B942-BDF8B97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8ED-9052-4375-BF3C-04BDFF76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47E-6920-4CB9-BAF8-CC143E2C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04E-A428-478C-BE8B-E64B3A7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C13-A9A5-4938-A0E8-0B237C7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124-502E-46BE-AE48-9883FE31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559-D470-454C-ABE3-0478E12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5614-B00D-4661-AD08-E44218586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