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4965"/>
        <c:axId val="81868141"/>
      </c:barChart>
      <c:catAx>
        <c:axId val="9524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68141"/>
        <c:crosses val="autoZero"/>
        <c:auto val="1"/>
        <c:lblAlgn val="ctr"/>
        <c:lblOffset val="100"/>
        <c:noMultiLvlLbl val="0"/>
      </c:catAx>
      <c:valAx>
        <c:axId val="818681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4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452-6530-4CA0-89D1-19549FF7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C8C-A99E-4051-948E-6480A7D2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7E45-F88B-420F-8E4F-FE9CD602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374-BFD3-4FC4-87B5-CA93BF61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CEAE-0179-44D4-9130-66F22EF4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117-5421-45D7-9E02-786EAC2E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A197-9A8C-4175-BBFD-CA4A74E5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9B3-06B1-4E80-99E2-D6F19AF5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9D1-10C1-4A57-9017-279F514A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F81-2D1D-4AA0-8415-8EBFB7BD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AAA-3E1A-4619-B7D1-5020A853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B5E3-A1E1-4BA0-B971-FFDEF437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9D28F-576B-4895-BC46-71FF689553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