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06"/>
        <c:axId val="26604014"/>
      </c:barChart>
      <c:catAx>
        <c:axId val="345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04014"/>
        <c:crosses val="autoZero"/>
        <c:auto val="1"/>
        <c:lblAlgn val="ctr"/>
        <c:lblOffset val="100"/>
        <c:noMultiLvlLbl val="0"/>
      </c:catAx>
      <c:valAx>
        <c:axId val="26604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95B-75CE-4878-884A-53D7FC19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82E-3629-4C77-B5AE-E948A18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188-AF78-47A2-A1DF-95AD22A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FB8-7F4F-4DAA-BBB8-37B872F8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BFF-79DD-4602-8DA0-9ED697D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943-BBE1-4D53-B8A6-5F72BC1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9C9-E6A2-4389-BFB5-BC8A3843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D7A-AD48-4B85-B839-76026426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B7-A496-45AA-9A37-AE8681E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D57-010B-4A8A-A6BC-EDB07A6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A3-01ED-4AB6-ACD8-0B93E11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CE4-508F-4E2B-8F23-5B81799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129D-E0C0-45F7-A618-1DB9C0C64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