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04066"/>
        <c:axId val="18370267"/>
      </c:barChart>
      <c:catAx>
        <c:axId val="25704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70267"/>
        <c:crosses val="autoZero"/>
        <c:auto val="1"/>
        <c:lblAlgn val="ctr"/>
        <c:lblOffset val="100"/>
        <c:noMultiLvlLbl val="0"/>
      </c:catAx>
      <c:valAx>
        <c:axId val="18370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4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29A-B143-4468-8A38-72487846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9DA-30A5-4CC4-85EA-FD6C4EFA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989-9E3C-4BC8-9683-2C962E1C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CD1-5690-4A2B-8148-161BF81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B66-306D-45FF-AAF3-2C2E2FC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744-88BA-4D3F-85FA-DEA42DF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A88-C1CF-430A-9B2E-BC8CB6C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C0A-88D2-4989-9E5D-F3FAB0F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1E-1848-4DC0-BA29-BA63E8DE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001-EB84-43F5-B28C-18B17C0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6F4-F5B9-445F-9E21-47083DF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607-431A-418F-ACB6-54DCC2DE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641DB-E14A-4857-8375-1841C6B9F2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