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19023"/>
        <c:axId val="98357431"/>
      </c:barChart>
      <c:catAx>
        <c:axId val="26519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57431"/>
        <c:crosses val="autoZero"/>
        <c:auto val="1"/>
        <c:lblAlgn val="ctr"/>
        <c:lblOffset val="100"/>
        <c:noMultiLvlLbl val="0"/>
      </c:catAx>
      <c:valAx>
        <c:axId val="98357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19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21A-0F2F-42B1-B221-C4174461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959-9C7F-47F9-9F24-9C2DD1AC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C77-B3CF-4CFB-8A76-A0491398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6F7-7EB3-4538-A167-DDB8C691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E30-DA92-4FB0-9202-7CE2118C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666-8376-455A-94B9-55B0361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EFA-2741-4338-B99D-EC420FE6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355-E955-4CD0-B099-388BFAFD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CD1-4CAE-4683-8AF2-AC3568AE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9B2-3C0A-4713-ABB3-0D75AE3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73A-32BA-4999-8D0F-09883040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C5C-68E8-4342-8458-8E0D361D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9C5C2-FE95-4088-A5BE-D67F47E63A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