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43516"/>
        <c:axId val="48048200"/>
      </c:barChart>
      <c:catAx>
        <c:axId val="82343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48200"/>
        <c:crosses val="autoZero"/>
        <c:auto val="1"/>
        <c:lblAlgn val="ctr"/>
        <c:lblOffset val="100"/>
        <c:noMultiLvlLbl val="0"/>
      </c:catAx>
      <c:valAx>
        <c:axId val="48048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3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C5F-BB54-4429-9C41-58CA4FB7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702-8500-44EC-A111-0F083E97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245-4742-4A57-9D4D-938D6CC7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502-488A-4E6D-9FFE-B23A592A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C2F-42C2-433B-A5FD-4BBDEB33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B1D-E4B5-4DB7-B62F-2B59F2E0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391-C4ED-4C6D-9882-DE1792FC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E38-C2D8-4D0F-94CD-8C2D4FCB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FDF-6A76-4DAA-A4CD-C0EF1E28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C87-7036-4D79-A619-177C8FE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254-CB70-42E9-80B9-E53C838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BE5-BCAD-4182-B4D6-D162947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1570A-2C45-44AB-ADE8-DFFD5234B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