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25372"/>
        <c:axId val="81940807"/>
      </c:barChart>
      <c:catAx>
        <c:axId val="285253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40807"/>
        <c:crosses val="autoZero"/>
        <c:auto val="1"/>
        <c:lblAlgn val="ctr"/>
        <c:lblOffset val="100"/>
        <c:noMultiLvlLbl val="0"/>
      </c:catAx>
      <c:valAx>
        <c:axId val="81940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253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4F6-B21B-4253-9C75-2B073F45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613-6C0E-40C5-932E-E70F70AC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33F8-B910-4B6E-BD41-62AD2A98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A95-E12D-49DA-B4C7-6CD8105A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F64F-B86C-4317-B398-F1BC67BF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132-3228-4FF2-AD9D-361F61EF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F8E6-E793-4F45-A931-556D25C0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7F47-ABC8-409D-82A9-289B2700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EC20-74FD-4AB5-9C8D-4991DC9B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C5CA-9C50-406B-9C1A-17A15A2D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D20D-EE6A-4E8E-9157-E23DEE30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D2EB-53A3-4324-BD51-1C0CCB91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1809C-E48C-43A6-B37A-17D6D2FA90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