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835747"/>
        <c:axId val="1158595"/>
      </c:barChart>
      <c:catAx>
        <c:axId val="80835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595"/>
        <c:crosses val="autoZero"/>
        <c:auto val="1"/>
        <c:lblAlgn val="ctr"/>
        <c:lblOffset val="100"/>
        <c:noMultiLvlLbl val="0"/>
      </c:catAx>
      <c:valAx>
        <c:axId val="11585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5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ACB-41AE-48A7-BF00-D798F854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0837-7C32-4633-A7FD-3874A8A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66C-A1C7-4EF5-A8F3-2EB4E65F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3B4-AF27-4B2C-A1C4-8E18D015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D1E-2D53-4B9F-8761-E734584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A0F-4BDF-4EDB-AE67-054549FB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BD9-FF7D-4461-9619-46F5D19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489-979F-4384-A6D3-C876D21B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460-D046-4F24-8534-FF87806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154-A24B-4BF7-A816-204BC6E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428-B8EA-414A-9FDF-4A03D30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CDB-51A9-44D0-BE82-331C80D6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D60FA-697E-4564-9DAF-DB652A22D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