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98221"/>
        <c:axId val="78254417"/>
      </c:barChart>
      <c:catAx>
        <c:axId val="66898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4417"/>
        <c:crosses val="autoZero"/>
        <c:auto val="1"/>
        <c:lblAlgn val="ctr"/>
        <c:lblOffset val="100"/>
        <c:noMultiLvlLbl val="0"/>
      </c:catAx>
      <c:valAx>
        <c:axId val="78254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8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0DB-8D4F-4DB1-B5D0-50CBB9CD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822-DA9B-4DDB-A139-099EA9AC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128-0CC6-4994-9604-7FD6583A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054-5FDF-4AEE-AEE9-62A35127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9BC-ECB0-4B93-9806-25B13F1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AE4-560F-4427-8011-3C600DF9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731-FC8B-41F9-BBC5-F9E3535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3D6-B895-4ED4-A9EA-2CEA6B7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E53-182F-456E-97AF-23F23ED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DC5-1553-48EB-B345-2EAB74A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DD5-E99E-4A51-A851-E845B50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A1C-B738-4FCF-9DE1-6705540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29708-190C-4F7B-A4B0-3726F48E5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