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45936"/>
        <c:axId val="8240339"/>
      </c:barChart>
      <c:catAx>
        <c:axId val="84245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0339"/>
        <c:crosses val="autoZero"/>
        <c:auto val="1"/>
        <c:lblAlgn val="ctr"/>
        <c:lblOffset val="100"/>
        <c:noMultiLvlLbl val="0"/>
      </c:catAx>
      <c:valAx>
        <c:axId val="8240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45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5DAB-A1E5-4269-B119-12A7411C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EA9-E0F6-4D22-84F7-CBA3FB9C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8C0-719F-4D17-AE28-D0B5F4F9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E48-E596-4F4D-AB4A-7DE9F927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8D3E-C150-451D-A1E8-1D2ECE7E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C47-07CC-42B6-9C01-FB052CC3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901-DD32-4A11-A8E4-B3956915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391-C228-4361-B955-25935A73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56A-38E8-4564-A84F-0E8C55FE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DA2-FED1-4850-9465-FE43066D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52B-90B4-4AA6-BE12-6CF6640E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42A-B384-4F73-BA82-1462CB9B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890BD-7095-42A3-A79A-3594964FD3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