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101314"/>
        <c:axId val="16255515"/>
      </c:barChart>
      <c:catAx>
        <c:axId val="861013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255515"/>
        <c:crosses val="autoZero"/>
        <c:auto val="1"/>
        <c:lblAlgn val="ctr"/>
        <c:lblOffset val="100"/>
        <c:noMultiLvlLbl val="0"/>
      </c:catAx>
      <c:valAx>
        <c:axId val="162555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1013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79EF-2A44-4897-8A47-D5F83B04E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D822-9392-4FB8-839D-F77B1BB33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B156-C09F-4E51-AE4E-E00BC8D7E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D0E1-5502-460D-A0D2-9D81CA3AB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B3DF-BB21-4BA1-94BC-63E0773D5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73EC-F97D-46AD-B8B4-DD50B389B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8C14-CB9E-46B3-A856-373CEDF18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F5A5-66ED-4DA2-9253-0627E9779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BBAE-23EA-46B2-B89B-37A9FDA69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AB3C-AA0B-4312-9AB9-7A8EAC69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8D3B-74D9-4A03-8119-1E7E0D068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6B00-EB19-4681-BB53-94399FEB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A62F90-4342-42EB-A0BD-DA45D6B3941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