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31340"/>
        <c:axId val="79864104"/>
      </c:barChart>
      <c:catAx>
        <c:axId val="65531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64104"/>
        <c:crosses val="autoZero"/>
        <c:auto val="1"/>
        <c:lblAlgn val="ctr"/>
        <c:lblOffset val="100"/>
        <c:noMultiLvlLbl val="0"/>
      </c:catAx>
      <c:valAx>
        <c:axId val="79864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31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83F-4465-4A3B-886A-F45F6EE0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49D-94EC-4580-A878-726261D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A72-E86A-4B61-A6AC-E490CB36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13E-C693-4B4F-A3E6-F945A20C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8F6-6E4D-4AF6-A3F8-15F4960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2A8-BA0E-47E1-AC87-AF976BC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F8C-9C4F-4502-8DAA-44A848B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71D-C563-4B47-8C8D-3A89F0D2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690-E6C2-4DD4-95BF-8741EDC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CFB-382F-47CF-9F8D-BD6838B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9A7-0AF4-4CE3-94C1-7B03192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116-0B5E-485D-B96C-C92CE7D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F52D1-E4D3-45AE-A155-CE9C844DC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