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04106"/>
        <c:axId val="81871977"/>
      </c:barChart>
      <c:catAx>
        <c:axId val="22204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71977"/>
        <c:crosses val="autoZero"/>
        <c:auto val="1"/>
        <c:lblAlgn val="ctr"/>
        <c:lblOffset val="100"/>
        <c:noMultiLvlLbl val="0"/>
      </c:catAx>
      <c:valAx>
        <c:axId val="81871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04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DAB-2AEB-4388-9277-EAAAC3DD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502-C9E2-453E-BD5C-FDED6368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E95-38C5-4F3F-A13A-B9F2EC77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1B6-B432-4CA4-B5F3-A18A6FC4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494-E194-49E3-96BC-2B54E77C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495-59BC-45ED-A49C-124871B3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DDE-4D5E-4AEB-BE88-8EFB3C20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F78-F7B1-40D1-B998-79E72BBB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A6F-6C07-4F31-87D4-F833809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290-E981-430E-9D78-94CA3CFB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ECD-6D39-4B2B-AF34-10DE4E38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03B-C4EF-4FBE-97A9-1E22169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7791A-8306-4D97-BC7A-2710D6A1C1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