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67597"/>
        <c:axId val="39526777"/>
      </c:barChart>
      <c:catAx>
        <c:axId val="94067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26777"/>
        <c:crosses val="autoZero"/>
        <c:auto val="1"/>
        <c:lblAlgn val="ctr"/>
        <c:lblOffset val="100"/>
        <c:noMultiLvlLbl val="0"/>
      </c:catAx>
      <c:valAx>
        <c:axId val="395267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67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B58B-B327-40E5-BB7B-A845A6EF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E0A-E463-417C-9924-7A2EB424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3CE-DABB-47EC-B8DE-2FA6E095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786A-E2EE-4BF1-9400-817962B3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7836-2379-4904-88F9-A56F1597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9A4-DA4B-43E0-8018-28E48C08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632-459A-4B89-A5A4-EF4E6EC4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E4F-2FD2-43E6-80F8-7F57B9B2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86F-CA5C-4519-B282-A87364EF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E65-F527-4913-BC8A-2BFBA0CF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257-5CE9-4618-9B0B-40C231A9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BBF-1F48-4279-A8EB-E7C9C261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4573F-82F3-44C7-AD63-F03D943562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