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50233"/>
        <c:axId val="91636414"/>
      </c:barChart>
      <c:catAx>
        <c:axId val="43650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36414"/>
        <c:crosses val="autoZero"/>
        <c:auto val="1"/>
        <c:lblAlgn val="ctr"/>
        <c:lblOffset val="100"/>
        <c:noMultiLvlLbl val="0"/>
      </c:catAx>
      <c:valAx>
        <c:axId val="91636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50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2BA-39B2-413A-9074-06E1D023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C00-84E6-4CE6-A317-4E6C968F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63F-DBE4-4B5F-AB9C-18285719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F1B-721A-455B-A976-DF229DB4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34E-C6AE-487F-BC79-D1A409A9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5EF-2DD7-46ED-ADF1-5CB12472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580-C7C9-4CC5-ABE9-A77CED8A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012-F517-455B-9137-4A68178D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046-C735-4B19-90A6-D1536212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745-E854-4DD1-ACFF-F901E2DE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BC6-7E40-4E03-86F9-219F1CC2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271-FE6C-494B-A56A-5140F03D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AFF53-371C-4919-9CF8-28924EAC4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