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180479"/>
        <c:axId val="47665509"/>
      </c:barChart>
      <c:catAx>
        <c:axId val="661804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65509"/>
        <c:crosses val="autoZero"/>
        <c:auto val="1"/>
        <c:lblAlgn val="ctr"/>
        <c:lblOffset val="100"/>
        <c:noMultiLvlLbl val="0"/>
      </c:catAx>
      <c:valAx>
        <c:axId val="476655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804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920D-D0EF-40AB-A4DD-56CFB8F5E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54F0-8479-4BCB-9881-3A097B2F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0179-D0D9-4C06-A911-8466820A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5CD1-5CF2-4D1D-82DD-5123C8CB7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3D66-66EB-421C-873B-09EF671D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1CAB-7E6C-4036-AFB6-C19B064A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B077-6516-4B06-984D-59DD7D65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4EEC-52EB-4431-94B0-114D8EA3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E26B-EC96-4D81-97E7-D83D06A6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9D5B-C7CE-4CEE-8613-9F5FAC7E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C2D9-F77A-4890-8ABF-F3FDCAF4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CBB3-BD2F-4CCA-A3A5-8F0D5C36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93C1B-EF61-4C3F-B4AE-90116526D0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